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KEYBOARD_08_2D04.WAV" ContentType="audio/x-wav"/>
  <Override PartName="/ppt/media/BB005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9A1-274A-46F7-A650-3F31D88F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973-AE69-4F64-86E9-F66E1323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EAB-AEE6-46D7-B579-11F51B4E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AD4-2C77-4EAB-8D3C-DF4F6BF3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C52D-02A8-45AB-BD92-1378A8AD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E3B-F244-4C87-A412-3024691F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A7DB-947A-467B-8DED-B108B7D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0352-E510-4C0F-9E85-D27AC21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ACFC-75B3-4B59-BA00-BBBAD623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3820-505B-4474-9899-0105861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3FC-2062-4354-8F07-1E7894C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E99-409F-4479-8EF9-C11BC787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3F5-99FA-4DE2-BB49-CD4B159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9F4-1F89-43B0-9DA4-FA8B2A5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5CC5-0E2B-4915-9D07-8ED5B4B1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2FB0-7F7D-4685-8FC7-2FFB018A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16A8-0FED-4D0A-9389-C598C462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6FB-F121-4F08-AB9F-7AF072F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707-B28E-4B1E-9F27-FBDB49DB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140-C470-4E20-BF11-DAA9AB1B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4C6-31CA-44B5-A4B1-BF2EC21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555-4C52-447C-A6CD-0B0DC35A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91C-F42F-428E-8602-55B7AF70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8DB-624B-4E02-B0FA-0AC5812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2D1-1E26-4E8C-B707-D99B13B3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3A48-28A4-4072-B801-6C0194C39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B005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B005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KEYBOARD_08_2D04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5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0" y="1700280"/>
            <a:ext cx="2879640" cy="1433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0600" spc="-1" strike="noStrike">
                <a:solidFill>
                  <a:srgbClr val="993300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10600" spc="-1" strike="noStrike">
                <a:solidFill>
                  <a:srgbClr val="993300"/>
                </a:solidFill>
                <a:latin typeface="Angsana New"/>
                <a:ea typeface="KodchiangUPC"/>
              </a:rPr>
              <a:t>4</a:t>
            </a:r>
            <a:endParaRPr b="0" lang="en-US" sz="106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95280" y="3645000"/>
            <a:ext cx="5648040" cy="1944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800" spc="-1" strike="noStrike">
                <a:solidFill>
                  <a:srgbClr val="ffcc66"/>
                </a:solidFill>
                <a:latin typeface="Angsana New"/>
                <a:cs typeface="LilyUPC"/>
              </a:rPr>
              <a:t>ปริมาณเชิงซ้อน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2" name="BB00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5280" y="888480"/>
            <a:ext cx="7184880" cy="1155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จำนวนเชิงซ้อนรูปแบบตรีโกณมิติ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276720" y="2276640"/>
                <a:ext cx="4093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j sin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211640" y="3213000"/>
                <a:ext cx="2089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 cos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140360" y="4149720"/>
                <a:ext cx="2006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 sin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ำนวนเชิงซ้อนรูปแบบตรีโกณมิต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834920" y="4508640"/>
            <a:ext cx="6948360" cy="877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ff99"/>
                </a:solidFill>
                <a:latin typeface="Angsana New"/>
                <a:cs typeface="LilyUPC"/>
              </a:rPr>
              <a:t>รูปเวกเตอร์เขียนในรูปแบบตรีโกณมิต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356000" y="1916280"/>
            <a:ext cx="0" cy="208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4360" y="3645000"/>
            <a:ext cx="3168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356000" y="2349000"/>
            <a:ext cx="230364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56000" y="2349360"/>
            <a:ext cx="230364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9640" y="2349360"/>
            <a:ext cx="0" cy="129564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356000" y="2349000"/>
            <a:ext cx="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3645000"/>
            <a:ext cx="2303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716360" y="3357720"/>
                <a:ext cx="7444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960720" y="35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348000" y="2205000"/>
                <a:ext cx="792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r sin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96000" y="3716280"/>
                <a:ext cx="7239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cos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810480" y="2205000"/>
                <a:ext cx="1938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 sin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ำนวนเชิงซ้อนรูปแบบตรีโกณมิต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0274600">
            <a:off x="5148360" y="3213000"/>
            <a:ext cx="212760" cy="409680"/>
          </a:xfrm>
          <a:custGeom>
            <a:avLst/>
            <a:gdLst>
              <a:gd name="textAreaLeft" fmla="*/ 0 w 212760"/>
              <a:gd name="textAreaRight" fmla="*/ 149400 w 21276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2484360" y="3141720"/>
            <a:ext cx="61912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สรุปรูปแบบจำนวนเชิงซ้อนที่ใช้งานมี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แบบดังนี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1)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รูปแบบแกนมุมฉ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)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รูปแบบเชิงขั้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)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รูปแบบตรีโกณมิต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4)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รูปแบบชี้กำลั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2484360" y="692280"/>
            <a:ext cx="6500880" cy="115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จำนวนเชิงซ้อนรูปแบบชี้กำลัง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95640" y="1989000"/>
                <a:ext cx="2210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 e</m:t>
                        </m:r>
                      </m:e>
                      <m:sup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148360" y="3789360"/>
                <a:ext cx="1666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148360" y="4292640"/>
                <a:ext cx="11761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 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012000" y="4365720"/>
            <a:ext cx="0" cy="358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724280"/>
            <a:ext cx="43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48360" y="4869000"/>
                <a:ext cx="30384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 sin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48360" y="5445000"/>
                <a:ext cx="1371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 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ำนวนเชิงซ้อนรูปแบบชี้กำ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410920" y="2781360"/>
            <a:ext cx="6193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80172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ือ การรวมกันหรือหักล้างกันของจำนวนเชิงซ้อ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จำนว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2411280" y="1413000"/>
            <a:ext cx="6392880" cy="115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การบวกและการลบจำนวนเชิงซ้อน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บวกและการลบจำนวนเชิงซ้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024360" cy="2052720"/>
          </a:xfrm>
          <a:prstGeom prst="rect">
            <a:avLst/>
          </a:prstGeom>
          <a:ln w="2844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30000">
    <p:zoom dir="out"/>
    <p:sndAc>
      <p:stSnd>
        <p:snd r:embed="rId4" name="BB005.WAV"/>
      </p:stSnd>
    </p:sndAc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5832720" cy="1155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การคูณจำนวนเชิงซ้อน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00360" y="2060280"/>
            <a:ext cx="5759280" cy="413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ffff99"/>
                </a:solidFill>
                <a:latin typeface="Angsana New"/>
                <a:cs typeface="LilyUPC"/>
              </a:rPr>
              <a:t>คูณกันด้วยรูปแบบแกนมุมฉา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132000" y="3068640"/>
                <a:ext cx="4548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132000" y="4869000"/>
                <a:ext cx="43927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คูณจำนวนเชิงซ้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411280" y="1483920"/>
            <a:ext cx="540072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ffff99"/>
                </a:solidFill>
                <a:latin typeface="Times New Roman"/>
                <a:cs typeface="LilyUPC"/>
              </a:rPr>
              <a:t>คูณกันด้วยรูปแบบเชิงขั้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322360" y="2349360"/>
                <a:ext cx="5129280" cy="27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°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°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°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564000" y="256536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64000" y="299736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00720" y="2637000"/>
            <a:ext cx="0" cy="50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00720" y="31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48360" y="3429000"/>
            <a:ext cx="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46560" y="4005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16720" y="3500280"/>
            <a:ext cx="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16720" y="4005360"/>
            <a:ext cx="503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51280" y="4365720"/>
            <a:ext cx="0" cy="57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4941720"/>
            <a:ext cx="1584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คูณจำนวนเชิงซ้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56000" y="1413000"/>
            <a:ext cx="6084720" cy="115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ffff99"/>
                </a:solidFill>
                <a:latin typeface="Times New Roman"/>
                <a:cs typeface="LilyUPC"/>
              </a:rPr>
              <a:t>คูณกันด้วยรูปแบบชี้กำลัง</a:t>
            </a:r>
            <a:endParaRPr b="0" lang="en-US" sz="4000" spc="-1" strike="noStrike">
              <a:solidFill>
                <a:srgbClr val="99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833560" y="2940120"/>
                <a:ext cx="4087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e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e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คูณจำนวนเชิงซ้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376000" y="1267920"/>
            <a:ext cx="6443640" cy="180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การหารจำนวนเชิงซ้อน</a:t>
            </a:r>
            <a:br>
              <a:rPr sz="4800"/>
            </a:br>
            <a:br>
              <a:rPr sz="500"/>
            </a:br>
            <a:r>
              <a:rPr b="1" i="1" lang="en-US" sz="500" spc="-1" strike="noStrike">
                <a:solidFill>
                  <a:srgbClr val="ffff99"/>
                </a:solidFill>
                <a:latin typeface="Times New Roman"/>
                <a:ea typeface="LilyUPC"/>
              </a:rPr>
              <a:t>	</a:t>
            </a:r>
            <a:r>
              <a:rPr b="1" i="1" lang="hi-IN" sz="4000" spc="-1" strike="noStrike">
                <a:solidFill>
                  <a:srgbClr val="ffff99"/>
                </a:solidFill>
                <a:latin typeface="Times New Roman"/>
                <a:cs typeface="LilyUPC"/>
              </a:rPr>
              <a:t>หารกันด้วยรูปแบบแกมมุมฉาก</a:t>
            </a:r>
            <a:endParaRPr b="0" lang="en-US" sz="40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987640" y="3213000"/>
                <a:ext cx="4824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หารจำนวนเชิงซ้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zoom dir="out"/>
    <p:sndAc>
      <p:stSnd>
        <p:snd r:embed="rId3" name="KEYBOARD_08_2D04.WAV"/>
      </p:stSnd>
    </p:sndAc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907640" y="2421000"/>
            <a:ext cx="669636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เป็นตัวเลขหรือจำนวนเลขที่มีค่าจริง ทราบค่าเลขเหล่านั้นได้ ค่าที่ได้อาจเป็นเลขจำนวนเต็ม เลขทศนิยม หรือเลขเศษส่วน มีค่าเป็นบวกหรือเป็นลบก็ได้ แบ่งออกได้เป็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ชนิด คือ จำนวนเลขลงตัว และจำนวนเลขไม่ลงตัว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จำนวนจริ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35280" y="888480"/>
            <a:ext cx="5905440" cy="1155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เลขจำนวนจริง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34920" y="981000"/>
            <a:ext cx="705636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ffff99"/>
                </a:solidFill>
                <a:latin typeface="Angsana New"/>
                <a:cs typeface="LilyUPC"/>
              </a:rPr>
              <a:t>จำนวนเลขลงตั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เป็นเลขที่แสดงค่าจริงและแน่นอนถูกต้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ffff99"/>
                </a:solidFill>
                <a:latin typeface="Angsana New"/>
                <a:cs typeface="LilyUPC"/>
              </a:rPr>
              <a:t>จำนวนเลขไม่ลงตั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เป็นเลขที่แสดงค่าจริงโดยประมาณ ค่าทศนิยมที่หาค่าเป็นค่าไม่รู้จ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40760" y="5805360"/>
            <a:ext cx="68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ff99"/>
                </a:solidFill>
                <a:latin typeface="Times New Roman"/>
                <a:cs typeface="LilyUPC"/>
              </a:rPr>
              <a:t>เส้นจำนวนจริงแสดงค่าเลขจำนวนจริงไว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จำนวนจริ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5300640"/>
            <a:ext cx="6840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364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836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5164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22936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5800" y="544500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60"/>
                <a:tab algn="l" pos="1082520"/>
                <a:tab algn="l" pos="1617840"/>
                <a:tab algn="l" pos="2068560"/>
                <a:tab algn="l" pos="2602080"/>
                <a:tab algn="l" pos="3137040"/>
                <a:tab algn="l" pos="3672000"/>
                <a:tab algn="l" pos="4219560"/>
                <a:tab algn="l" pos="4670280"/>
                <a:tab algn="l" pos="5205240"/>
                <a:tab algn="l" pos="5654520"/>
                <a:tab algn="l" pos="618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6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5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4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3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0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3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 5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21720" y="472428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16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720" y="472428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13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3080" y="472428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00760" y="472428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4797360"/>
            <a:ext cx="21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7240" y="465300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5229360"/>
            <a:ext cx="0" cy="71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78520" y="47214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4720" y="472428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9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50920" y="2205000"/>
            <a:ext cx="626616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900000"/>
                <a:tab algn="l" pos="95256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ตัวเลขหรือจำนวนเลขที่ไม่ใช่จำนวนจริง เกิดจากการถอดรากที่สองของเลขจำนวนจริงล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887120" y="836640"/>
            <a:ext cx="6645240" cy="115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เลขจำนวนจินตภาพ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29040" y="5516640"/>
            <a:ext cx="84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Times New Roman"/>
                <a:cs typeface="LilyUPC"/>
              </a:rPr>
              <a:t>เส้นจำนวนจินตภาพแสดงค่าเลขจำนวนจินตภาพไว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คำนวณจินตภา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581360"/>
            <a:ext cx="6912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236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8036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8508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836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450864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5520" y="4005360"/>
            <a:ext cx="74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60"/>
                <a:tab algn="l" pos="1082520"/>
                <a:tab algn="l" pos="1617840"/>
                <a:tab algn="l" pos="2068560"/>
                <a:tab algn="l" pos="2602080"/>
                <a:tab algn="l" pos="3137040"/>
                <a:tab algn="l" pos="3672000"/>
                <a:tab algn="l" pos="4219560"/>
                <a:tab algn="l" pos="4670280"/>
                <a:tab algn="l" pos="5205240"/>
                <a:tab algn="l" pos="5654520"/>
                <a:tab algn="l" pos="618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0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3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j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6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050560" y="1125360"/>
            <a:ext cx="6480360" cy="865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07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Times New Roman"/>
                <a:cs typeface="LilyUPC"/>
              </a:rPr>
              <a:t>ตารางแสดงค่า 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LilyUPC"/>
              </a:rPr>
              <a:t>j </a:t>
            </a:r>
            <a:r>
              <a:rPr b="1" i="1" lang="th-TH" sz="3200" spc="-1" strike="noStrike">
                <a:solidFill>
                  <a:srgbClr val="ffff99"/>
                </a:solidFill>
                <a:latin typeface="Times New Roman"/>
                <a:cs typeface="LilyUPC"/>
              </a:rPr>
              <a:t>ยกกำลังต่าง 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727280" y="2133720"/>
          <a:ext cx="7237440" cy="2374920"/>
        </p:xfrm>
        <a:graphic>
          <a:graphicData uri="http://schemas.openxmlformats.org/drawingml/2006/table">
            <a:tbl>
              <a:tblPr/>
              <a:tblGrid>
                <a:gridCol w="957240"/>
                <a:gridCol w="799920"/>
                <a:gridCol w="841320"/>
                <a:gridCol w="914400"/>
                <a:gridCol w="912960"/>
                <a:gridCol w="914400"/>
                <a:gridCol w="960480"/>
                <a:gridCol w="936720"/>
              </a:tblGrid>
              <a:tr h="114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EucrosiaUPC"/>
                        </a:rPr>
                        <a:t>ค่าผลลัพธ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3300"/>
                        </a:gs>
                        <a:gs pos="50000">
                          <a:srgbClr val="ffff99"/>
                        </a:gs>
                        <a:gs pos="100000">
                          <a:srgbClr val="993300"/>
                        </a:gs>
                      </a:gsLst>
                      <a:lin ang="5400000"/>
                    </a:gra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EucrosiaUPC"/>
                        </a:rPr>
                        <a:t>ค่ายกกำลั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3300"/>
                        </a:gs>
                        <a:gs pos="50000">
                          <a:srgbClr val="ffff99"/>
                        </a:gs>
                        <a:gs pos="100000">
                          <a:srgbClr val="9933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-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-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EucrosiaUPC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030120" y="2637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5200" y="2637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58840" y="2637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63880" y="263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99160" y="263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4240" y="263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30120" y="3068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5200" y="3068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58840" y="3068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63880" y="3068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99160" y="3068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4240" y="3068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30120" y="357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30120" y="400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95200" y="357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3400" y="35002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0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7520" y="4005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63880" y="3500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63880" y="4005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99160" y="3500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99160" y="4005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4240" y="3573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4240" y="40053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คำนวณจินตภา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5876640" cy="115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ff99"/>
                </a:solidFill>
                <a:latin typeface="Times New Roman"/>
                <a:cs typeface="LilyUPC"/>
              </a:rPr>
              <a:t>เลขจำนวนเชิงซ้อน</a:t>
            </a:r>
            <a:endParaRPr b="0" lang="en-US" sz="4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68360" y="1125000"/>
            <a:ext cx="626616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จำนวนเลขที่ประกอบด้วยเลขจำนวนจริงรวมกับเลขจำนวนจินตภา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364000" y="2708280"/>
            <a:ext cx="0" cy="35290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4508640"/>
            <a:ext cx="4464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22100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393372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364500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335772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2720" y="299736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479736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2720" y="508464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537372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66100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5950080"/>
            <a:ext cx="142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0400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436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8472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436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64000" y="4437000"/>
            <a:ext cx="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2840" y="2492280"/>
            <a:ext cx="2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7360" y="59500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-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8280" y="429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29600" y="429264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1800" y="450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49800" y="450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5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4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37440" y="2852640"/>
            <a:ext cx="54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j5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j4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j3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j2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j1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37440" y="4653000"/>
            <a:ext cx="54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j1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j2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j3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j4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717480"/>
                <a:tab algn="l" pos="1082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j5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797360"/>
            <a:ext cx="0" cy="86364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661000"/>
            <a:ext cx="28908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24360" y="5373720"/>
            <a:ext cx="107964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804000" y="4724280"/>
            <a:ext cx="0" cy="64944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084720" y="3068280"/>
            <a:ext cx="0" cy="129708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651280" y="2997360"/>
            <a:ext cx="43308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643280" y="3645000"/>
            <a:ext cx="64944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60360" y="51577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1080" y="285264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01440" y="3500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300720" y="4076640"/>
                <a:ext cx="2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130800" y="2781360"/>
                <a:ext cx="3492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272120" y="3346560"/>
                <a:ext cx="323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908600" y="4005360"/>
                <a:ext cx="347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632480" y="5505480"/>
                <a:ext cx="32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92840" y="4857840"/>
                <a:ext cx="322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778800" y="5289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4860000" y="544500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4000" y="6178680"/>
            <a:ext cx="6634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ffff99"/>
                </a:solidFill>
                <a:latin typeface="Angsana New"/>
                <a:cs typeface="LilyUPC"/>
              </a:rPr>
              <a:t>รูปการกำหนดค่าจำนวนเชิงซ้อนลงบนแกนกรา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0"/>
            <a:ext cx="5689440" cy="3988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จำนวนเชิงซ้อ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308720" y="1628640"/>
                <a:ext cx="1008360" cy="26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5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3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4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907640" y="5373360"/>
            <a:ext cx="663444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ff99"/>
                </a:solidFill>
                <a:latin typeface="Angsana New"/>
                <a:cs typeface="LilyUPC"/>
              </a:rPr>
              <a:t>รูปเวกเตอร์เขียนในรูปแบบแกนมุมฉา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6335640" cy="1155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ffff99"/>
                </a:solidFill>
                <a:latin typeface="Times New Roman"/>
                <a:cs typeface="LilyUPC"/>
              </a:rPr>
              <a:t>จำนวนเชิงซ้อนรูปแบบแกนมุมฉาก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211640" y="1844640"/>
                <a:ext cx="197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x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j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V="1">
            <a:off x="3851280" y="3284640"/>
            <a:ext cx="0" cy="151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4797360"/>
            <a:ext cx="273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16000" y="27082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แกนจินตภา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90360" y="4581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แกนจริ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99760" y="357336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j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84360" y="45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9280" y="4869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851280" y="3789360"/>
            <a:ext cx="208908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850920" y="3789360"/>
            <a:ext cx="208908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0360" y="3789360"/>
            <a:ext cx="0" cy="100800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931000" y="3535200"/>
                <a:ext cx="108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จำนวนเชิงซ้อนรูปแบบแกนมุมฉา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050920" y="551628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1082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ff99"/>
                </a:solidFill>
                <a:latin typeface="Angsana New"/>
                <a:cs typeface="LilyUPC"/>
              </a:rPr>
              <a:t>รูปเวกเตอร์เขียนในรูปแบบเชิงขั้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2484000" y="692280"/>
            <a:ext cx="6193080" cy="115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ffff99"/>
                </a:solidFill>
                <a:latin typeface="Times New Roman"/>
                <a:cs typeface="LilyUPC"/>
              </a:rPr>
              <a:t>จำนวนเชิงซ้อนรูปแบบเชิงขั้ว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140360" y="1916280"/>
                <a:ext cx="1863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r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5292720" y="1989000"/>
            <a:ext cx="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2421000"/>
            <a:ext cx="574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2852640"/>
            <a:ext cx="0" cy="259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4797360"/>
            <a:ext cx="360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284720" y="3357360"/>
            <a:ext cx="2016000" cy="1439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84720" y="3357720"/>
            <a:ext cx="2016000" cy="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0720" y="3357720"/>
            <a:ext cx="0" cy="1439640"/>
          </a:xfrm>
          <a:prstGeom prst="line">
            <a:avLst/>
          </a:prstGeom>
          <a:ln w="12600">
            <a:solidFill>
              <a:srgbClr val="f8f8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300720" y="3121200"/>
                <a:ext cx="11858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  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7164360" y="314172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4360" y="3429000"/>
            <a:ext cx="432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1760" y="306864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j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9640" y="4869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908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002920" y="3645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643280" y="4508640"/>
                <a:ext cx="7448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จำนวนเชิงซ้อนรูปแบบเชิงขั้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20274600">
            <a:off x="4921200" y="4325400"/>
            <a:ext cx="228600" cy="428760"/>
          </a:xfrm>
          <a:custGeom>
            <a:avLst/>
            <a:gdLst>
              <a:gd name="textAreaLeft" fmla="*/ 0 w 228600"/>
              <a:gd name="textAreaRight" fmla="*/ 160560 w 228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619280" y="0"/>
            <a:ext cx="752472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68235"/>
                </a:srgbClr>
              </a:gs>
              <a:gs pos="50000">
                <a:srgbClr val="cecece">
                  <a:alpha val="56078"/>
                </a:srgbClr>
              </a:gs>
              <a:gs pos="100000">
                <a:srgbClr val="9933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140360" y="2060640"/>
                <a:ext cx="2393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284720" y="3645000"/>
                <a:ext cx="2057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1258920" y="0"/>
            <a:ext cx="5689440" cy="7038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	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ิมาณเชิงซ้อน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ขจำนวนเชิงซ้อนรูปแบบเชิงขั้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zoom dir="out"/>
    <p:sndAc>
      <p:stSnd>
        <p:snd r:embed="rId3" name="BB005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7:09:20Z</dcterms:created>
  <dc:creator>ADMIN</dc:creator>
  <dc:description/>
  <dc:language>en-US</dc:language>
  <cp:lastModifiedBy>พี่อุอุ๊</cp:lastModifiedBy>
  <dcterms:modified xsi:type="dcterms:W3CDTF">2005-11-14T04:17:28Z</dcterms:modified>
  <cp:revision>48</cp:revision>
  <dc:subject/>
  <dc:title>งานนำเสนอ PowerPoint</dc:title>
</cp:coreProperties>
</file>